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80AD-440B-4AAF-9CA2-B2FFBEE03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2F4B-4369-422C-8140-30B9EF418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AAF9-592D-4988-A071-0843645C2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9200-6394-4719-BD85-081D6973D4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F591-B275-45D7-8DC4-907D1BC3F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8FB3-A54C-4B7B-9212-68673655C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ABB5-C949-4C27-B803-67259D1BC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DE74-9EBE-4E5B-8AA4-E2C68B9D7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0576-7987-40D4-9A62-19D6665DE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32B6-567B-46E9-BD2F-33C817BB7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4A39-FA69-42A7-A349-8F651BF89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7918-3B84-4E02-85AA-9123BB061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C5A9-068A-4560-A7C8-A681F580CE77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51000" y="6324480"/>
            <a:ext cx="660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45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e4c"/>
                </a:solidFill>
                <a:latin typeface="Arial"/>
              </a:rPr>
              <a:t>I&amp;M W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MCC: Scheduling &amp; PEWs</a:t>
            </a:r>
            <a:br>
              <a:rPr sz="3200"/>
            </a:br>
            <a:r>
              <a:rPr b="0" lang="en-GB" sz="3200" spc="-1" strike="noStrike">
                <a:solidFill>
                  <a:srgbClr val="003e4c"/>
                </a:solidFill>
                <a:latin typeface="BTExtraBold"/>
              </a:rPr>
              <a:t>Steve Blackshaw &amp; Sam Clark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5" name=""/>
          <p:cNvSpPr/>
          <p:nvPr/>
        </p:nvSpPr>
        <p:spPr>
          <a:xfrm>
            <a:off x="638280" y="512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141720"/>
            <a:ext cx="8001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e4c"/>
                </a:solidFill>
                <a:latin typeface="BTMedium"/>
              </a:rPr>
              <a:t>The following slides articulate the concepts that BTW is currently considering within its scheduling and PEWs function design for the MCC. Its purpose is to seek feedback/dialogue with Communication Providers on these concepts following the recent consultation (C21-IM-008)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4869-BADA-44D7-B415-CE0F828BB9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68360" y="461880"/>
            <a:ext cx="7775640" cy="2749680"/>
            <a:chOff x="468360" y="461880"/>
            <a:chExt cx="7775640" cy="2749680"/>
          </a:xfrm>
        </p:grpSpPr>
        <p:sp>
          <p:nvSpPr>
            <p:cNvPr id="48" name=""/>
            <p:cNvSpPr/>
            <p:nvPr/>
          </p:nvSpPr>
          <p:spPr>
            <a:xfrm>
              <a:off x="46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0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32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636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956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27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59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59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909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24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56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894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214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530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847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167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80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12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57320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0412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25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573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0" y="1159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ug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52600" y="115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176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97200" y="1159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812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81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6012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1260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4532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3016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278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4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071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24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696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178680"/>
            <a:ext cx="431640" cy="23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56880" y="6178680"/>
            <a:ext cx="170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On-the-Night Cutove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284640"/>
            <a:ext cx="43344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93960" y="3298680"/>
            <a:ext cx="623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into MCC control; W/C dates published to CPs; CPs have 3 weeks to raise C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645000"/>
            <a:ext cx="433440" cy="21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17720" y="3645000"/>
            <a:ext cx="71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3 wks to assess CRs &amp; respond; amend Schedule if necessary (amended sites stay in quarter if poss.) 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003560"/>
            <a:ext cx="142920" cy="216000"/>
          </a:xfrm>
          <a:prstGeom prst="rect">
            <a:avLst/>
          </a:prstGeom>
          <a:solidFill>
            <a:srgbClr val="e9ff8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21320" y="4003560"/>
            <a:ext cx="706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s issued at -21 days from each DLE catchment area or DSLAM site grooming; TCP fit or Cutove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738680"/>
            <a:ext cx="4334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099040"/>
            <a:ext cx="4334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90000" y="5111640"/>
            <a:ext cx="719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3 wks to assess CRs &amp; respond; Schedule amended if necessary (amended sites stay in week if poss.) 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1160" y="4753080"/>
            <a:ext cx="47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OTN (On-The-Night) dates to CPs; CPs have 3 weeks to raise C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459400"/>
            <a:ext cx="1297080" cy="2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6560" y="5400720"/>
            <a:ext cx="231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Grooming &amp; TCP Fitting activit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5818320"/>
            <a:ext cx="129528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7480" y="5761080"/>
            <a:ext cx="72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Fixed (when OTN dates are fixed, only “life &amp; death” / “blue light” / emergency changes allowed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720" y="890640"/>
            <a:ext cx="2006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Managemen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123920"/>
            <a:ext cx="2006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 Issue &amp; Manage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1352520"/>
            <a:ext cx="244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Activities (Groom, TCP, Cutover)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363920"/>
            <a:ext cx="433440" cy="216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3680" y="4378320"/>
            <a:ext cx="25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s Management during activit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59280" y="907920"/>
            <a:ext cx="3889080" cy="649440"/>
            <a:chOff x="3059280" y="907920"/>
            <a:chExt cx="3889080" cy="649440"/>
          </a:xfrm>
        </p:grpSpPr>
        <p:sp>
          <p:nvSpPr>
            <p:cNvPr id="110" name=""/>
            <p:cNvSpPr/>
            <p:nvPr/>
          </p:nvSpPr>
          <p:spPr>
            <a:xfrm>
              <a:off x="6516720" y="134136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19640" y="134136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4360" y="134136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0836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9280" y="90792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8000" y="90792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90792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24360" y="112392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9640" y="112392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6720" y="112392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0544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252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3080" y="90792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2160" y="90792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2520" y="90792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DF3B-52E3-475F-86D6-71318D5B8BBE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68360" y="461880"/>
            <a:ext cx="7775640" cy="5342040"/>
            <a:chOff x="468360" y="461880"/>
            <a:chExt cx="7775640" cy="5342040"/>
          </a:xfrm>
        </p:grpSpPr>
        <p:sp>
          <p:nvSpPr>
            <p:cNvPr id="126" name=""/>
            <p:cNvSpPr/>
            <p:nvPr/>
          </p:nvSpPr>
          <p:spPr>
            <a:xfrm>
              <a:off x="46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0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32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636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56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59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59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09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4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56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894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14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0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47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167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4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4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80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12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44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7320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0412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25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573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01200" y="1159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ug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52600" y="115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176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97200" y="1159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812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1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6012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260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532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8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24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696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3016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64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71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58920" y="5733720"/>
            <a:ext cx="3260520" cy="689400"/>
            <a:chOff x="1258920" y="5733720"/>
            <a:chExt cx="3260520" cy="689400"/>
          </a:xfrm>
        </p:grpSpPr>
        <p:sp>
          <p:nvSpPr>
            <p:cNvPr id="167" name=""/>
            <p:cNvSpPr/>
            <p:nvPr/>
          </p:nvSpPr>
          <p:spPr>
            <a:xfrm>
              <a:off x="1258920" y="5734080"/>
              <a:ext cx="24685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being groomed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having TCPs fitted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being migrated </a:t>
              </a: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*</a:t>
              </a:r>
              <a:r>
                <a:rPr b="0" lang="en-US" sz="1800" spc="-1" strike="noStrike">
                  <a:solidFill>
                    <a:srgbClr val="003e4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087800" y="5734080"/>
              <a:ext cx="0" cy="2872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519440" y="5733720"/>
              <a:ext cx="0" cy="576360"/>
            </a:xfrm>
            <a:prstGeom prst="line">
              <a:avLst/>
            </a:prstGeom>
            <a:ln w="93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655800" y="6021360"/>
              <a:ext cx="431640" cy="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656160" y="6310440"/>
              <a:ext cx="863280" cy="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702120" y="63216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* </a:t>
            </a:r>
            <a:r>
              <a:rPr b="0" lang="en-US" sz="900" spc="-1" strike="noStrike">
                <a:solidFill>
                  <a:srgbClr val="003e4c"/>
                </a:solidFill>
                <a:latin typeface="Arial"/>
              </a:rPr>
              <a:t>Based on average 10 conc units per DLE </a:t>
            </a:r>
            <a:endParaRPr b="0" lang="en-US" sz="9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8360" y="547560"/>
            <a:ext cx="3889080" cy="649440"/>
            <a:chOff x="468360" y="547560"/>
            <a:chExt cx="3889080" cy="649440"/>
          </a:xfrm>
        </p:grpSpPr>
        <p:sp>
          <p:nvSpPr>
            <p:cNvPr id="174" name=""/>
            <p:cNvSpPr/>
            <p:nvPr/>
          </p:nvSpPr>
          <p:spPr>
            <a:xfrm>
              <a:off x="3925800" y="98100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28720" y="98100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33440" y="98100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744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360" y="54756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080" y="54756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17440" y="54756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33440" y="7635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28720" y="76356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25800" y="7635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1452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1160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62160" y="54756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51240" y="54756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1600" y="54756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00000" y="1193760"/>
            <a:ext cx="3889080" cy="649440"/>
            <a:chOff x="900000" y="1193760"/>
            <a:chExt cx="3889080" cy="649440"/>
          </a:xfrm>
        </p:grpSpPr>
        <p:sp>
          <p:nvSpPr>
            <p:cNvPr id="190" name=""/>
            <p:cNvSpPr/>
            <p:nvPr/>
          </p:nvSpPr>
          <p:spPr>
            <a:xfrm>
              <a:off x="4357440" y="162720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60360" y="162720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5080" y="162720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4908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0000" y="119376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8720" y="119376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49080" y="119376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65080" y="14097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60360" y="140976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7440" y="14097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4616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324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3800" y="119376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2880" y="119376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3240" y="119376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332000" y="1841400"/>
            <a:ext cx="3889080" cy="649440"/>
            <a:chOff x="1332000" y="1841400"/>
            <a:chExt cx="3889080" cy="649440"/>
          </a:xfrm>
        </p:grpSpPr>
        <p:sp>
          <p:nvSpPr>
            <p:cNvPr id="206" name=""/>
            <p:cNvSpPr/>
            <p:nvPr/>
          </p:nvSpPr>
          <p:spPr>
            <a:xfrm>
              <a:off x="4789440" y="227484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92360" y="227484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97080" y="227484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108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184140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20720" y="184140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1080" y="184140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97080" y="20574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92360" y="205740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89440" y="20574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7816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524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5800" y="184140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14880" y="184140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5240" y="184140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763640" y="2490840"/>
            <a:ext cx="3889080" cy="648720"/>
            <a:chOff x="1763640" y="2490840"/>
            <a:chExt cx="3889080" cy="648720"/>
          </a:xfrm>
        </p:grpSpPr>
        <p:sp>
          <p:nvSpPr>
            <p:cNvPr id="222" name=""/>
            <p:cNvSpPr/>
            <p:nvPr/>
          </p:nvSpPr>
          <p:spPr>
            <a:xfrm>
              <a:off x="5221080" y="292392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24000" y="292392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28720" y="292392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1272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3640" y="249084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52360" y="249084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12720" y="249084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8720" y="270648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24000" y="270648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1080" y="270648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0980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0688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57440" y="249084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46520" y="249084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6880" y="249084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195640" y="3138480"/>
            <a:ext cx="3889080" cy="649440"/>
            <a:chOff x="2195640" y="3138480"/>
            <a:chExt cx="3889080" cy="649440"/>
          </a:xfrm>
        </p:grpSpPr>
        <p:sp>
          <p:nvSpPr>
            <p:cNvPr id="238" name=""/>
            <p:cNvSpPr/>
            <p:nvPr/>
          </p:nvSpPr>
          <p:spPr>
            <a:xfrm>
              <a:off x="5653080" y="357192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56000" y="357192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60720" y="357192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472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95640" y="313848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84360" y="313848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4720" y="313848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0720" y="335448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6000" y="335448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53080" y="335448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4180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888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9440" y="313848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78520" y="313848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38880" y="313848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627280" y="3787920"/>
            <a:ext cx="3889080" cy="648720"/>
            <a:chOff x="2627280" y="3787920"/>
            <a:chExt cx="3889080" cy="648720"/>
          </a:xfrm>
        </p:grpSpPr>
        <p:sp>
          <p:nvSpPr>
            <p:cNvPr id="254" name=""/>
            <p:cNvSpPr/>
            <p:nvPr/>
          </p:nvSpPr>
          <p:spPr>
            <a:xfrm>
              <a:off x="6084720" y="422100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87640" y="422100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92360" y="422100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7636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27280" y="378792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6000" y="378792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76360" y="378792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92360" y="400356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87640" y="400356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84720" y="400356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344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7052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1080" y="378792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10160" y="378792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70520" y="378792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059280" y="4435560"/>
            <a:ext cx="3889080" cy="648720"/>
            <a:chOff x="3059280" y="4435560"/>
            <a:chExt cx="3889080" cy="648720"/>
          </a:xfrm>
        </p:grpSpPr>
        <p:sp>
          <p:nvSpPr>
            <p:cNvPr id="270" name=""/>
            <p:cNvSpPr/>
            <p:nvPr/>
          </p:nvSpPr>
          <p:spPr>
            <a:xfrm>
              <a:off x="6516720" y="486864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19640" y="486864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4360" y="486864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0836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59280" y="443556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48000" y="443556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08360" y="443556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24360" y="465120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19640" y="465120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16720" y="465120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544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252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53080" y="443556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2160" y="443556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02520" y="443556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490920" y="5083200"/>
            <a:ext cx="3889080" cy="649440"/>
            <a:chOff x="3490920" y="5083200"/>
            <a:chExt cx="3889080" cy="649440"/>
          </a:xfrm>
        </p:grpSpPr>
        <p:sp>
          <p:nvSpPr>
            <p:cNvPr id="286" name=""/>
            <p:cNvSpPr/>
            <p:nvPr/>
          </p:nvSpPr>
          <p:spPr>
            <a:xfrm>
              <a:off x="6948360" y="551664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51280" y="551664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56000" y="551664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4000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90920" y="508320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79640" y="508320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40000" y="508320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56000" y="52992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51280" y="529920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48360" y="52992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3708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3416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84720" y="508320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73800" y="508320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34160" y="508320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92D3-D2DD-4DDA-B43A-3AE91AC7C8AC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41640" y="620640"/>
            <a:ext cx="129852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3e4c"/>
            </a:solidFill>
            <a:miter/>
          </a:ln>
          <a:effectLst>
            <a:outerShdw dist="107932" dir="189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PEW Clarify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6160" y="1557360"/>
            <a:ext cx="8133120" cy="1419120"/>
            <a:chOff x="326160" y="1557360"/>
            <a:chExt cx="8133120" cy="1419120"/>
          </a:xfrm>
        </p:grpSpPr>
        <p:sp>
          <p:nvSpPr>
            <p:cNvPr id="303" name=""/>
            <p:cNvSpPr/>
            <p:nvPr/>
          </p:nvSpPr>
          <p:spPr>
            <a:xfrm>
              <a:off x="4157280" y="2112840"/>
              <a:ext cx="129816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52520" y="2400120"/>
              <a:ext cx="100764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6160" y="15573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1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4040" y="1990800"/>
              <a:ext cx="1194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athfinder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hases 1&amp;2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82480" y="212724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6720" y="249408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08360" y="2494080"/>
              <a:ext cx="2950920" cy="0"/>
            </a:xfrm>
            <a:prstGeom prst="line">
              <a:avLst/>
            </a:prstGeom>
            <a:ln w="381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08720" y="220644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Emails to CP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44240" y="2195640"/>
              <a:ext cx="8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CC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anu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Activit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15640" y="163044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Nov 06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6520" y="3068640"/>
            <a:ext cx="8787960" cy="1716480"/>
            <a:chOff x="326520" y="3068640"/>
            <a:chExt cx="8787960" cy="1716480"/>
          </a:xfrm>
        </p:grpSpPr>
        <p:sp>
          <p:nvSpPr>
            <p:cNvPr id="314" name=""/>
            <p:cNvSpPr/>
            <p:nvPr/>
          </p:nvSpPr>
          <p:spPr>
            <a:xfrm>
              <a:off x="4157640" y="3624120"/>
              <a:ext cx="129852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IRAMs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16640" y="362412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21C CP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56160" y="3911400"/>
              <a:ext cx="100836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56160" y="4199040"/>
              <a:ext cx="100836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2880" y="4199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52880" y="391140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6520" y="306864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2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4760" y="3479760"/>
              <a:ext cx="104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athfinder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hase 3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18320" y="3479760"/>
              <a:ext cx="142920" cy="1152360"/>
            </a:xfrm>
            <a:prstGeom prst="ellipse">
              <a:avLst/>
            </a:prstGeom>
            <a:noFill/>
            <a:ln w="9360">
              <a:solidFill>
                <a:srgbClr val="003e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44640" y="319248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Unified PEW Process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82840" y="3638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96880" y="420048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BB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7080" y="398304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62400" y="3558960"/>
              <a:ext cx="1252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Access enable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CPs to 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come &amp; look”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92720" y="4775040"/>
              <a:ext cx="3167280" cy="0"/>
            </a:xfrm>
            <a:prstGeom prst="line">
              <a:avLst/>
            </a:prstGeom>
            <a:ln w="2844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92720" y="4487760"/>
              <a:ext cx="0" cy="287280"/>
            </a:xfrm>
            <a:prstGeom prst="line">
              <a:avLst/>
            </a:prstGeom>
            <a:ln w="2844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20240" y="450864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Emails to CP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66920" y="3695760"/>
              <a:ext cx="8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CC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anu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Activit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16360" y="313200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Feb 07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78360" y="4653000"/>
            <a:ext cx="8728200" cy="1725480"/>
            <a:chOff x="378360" y="4653000"/>
            <a:chExt cx="8728200" cy="1725480"/>
          </a:xfrm>
        </p:grpSpPr>
        <p:sp>
          <p:nvSpPr>
            <p:cNvPr id="334" name=""/>
            <p:cNvSpPr/>
            <p:nvPr/>
          </p:nvSpPr>
          <p:spPr>
            <a:xfrm>
              <a:off x="2124000" y="520848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TEWT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9840" y="5208480"/>
              <a:ext cx="129852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IRAMs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68840" y="520848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21C CP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9920" y="556740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35920" y="503532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e4c"/>
                  </a:solidFill>
                  <a:latin typeface="Arial"/>
                </a:rPr>
                <a:t>RSS feed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08360" y="549576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08360" y="5783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5080" y="5783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5080" y="549576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8360" y="46530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3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7320" y="513720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Nation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igration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70520" y="5064120"/>
              <a:ext cx="142560" cy="1152360"/>
            </a:xfrm>
            <a:prstGeom prst="ellipse">
              <a:avLst/>
            </a:prstGeom>
            <a:noFill/>
            <a:ln w="9360">
              <a:solidFill>
                <a:srgbClr val="003e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6840" y="477684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Unified PEW Process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35040" y="522288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49080" y="578484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BB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800" y="5675400"/>
              <a:ext cx="996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Grooming,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TCP fit,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9800" y="470520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Mar 07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26160" y="260280"/>
            <a:ext cx="8133120" cy="1241280"/>
            <a:chOff x="326160" y="260280"/>
            <a:chExt cx="8133120" cy="1241280"/>
          </a:xfrm>
        </p:grpSpPr>
        <p:sp>
          <p:nvSpPr>
            <p:cNvPr id="352" name=""/>
            <p:cNvSpPr/>
            <p:nvPr/>
          </p:nvSpPr>
          <p:spPr>
            <a:xfrm>
              <a:off x="3152520" y="1103040"/>
              <a:ext cx="100764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160" y="2602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0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4040" y="744480"/>
              <a:ext cx="153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Wick POTS onl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82480" y="83016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6720" y="110304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16720" y="31248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Oct 06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08360" y="1174680"/>
              <a:ext cx="2950920" cy="0"/>
            </a:xfrm>
            <a:prstGeom prst="line">
              <a:avLst/>
            </a:prstGeom>
            <a:ln w="381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39280" y="887400"/>
              <a:ext cx="246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e4c"/>
                  </a:solidFill>
                  <a:latin typeface="Arial"/>
                </a:rPr>
                <a:t>NPW Team informs BT Wholsale 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E184-819E-4257-A4F8-DE06624DDC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Summary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New 21CN Industry Web Portal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igration Schedule releases, changes &amp; latest PEW information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PSTN PEW Notification Proces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developed to mirror the existing Broadband / DSLAM process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Existing BB PEW Email Notification Process (including PSTN) 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enhanced to provide RSS feeds via the web portal.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“</a:t>
            </a: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Blanket PEWs for Grooming &amp; TCP fit”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weekly or fortnightly time periods listing a number of sites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recognises the very low impact &amp; outage times incurred by this work which is analogous to everyday provision &amp; maintenance activity across the UK telecoms networks.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existing PEW process continues for End-Customer “On the Night” migration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i.e. 00:00 to 06:00 on a specified date per DLE or DSLAM site. 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The Migration Plan Change Request &amp; Dispute Proces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will include an Emergency Change Request (ECR) process for changes within the last few weeks of migration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298C-2405-458C-A3E5-949D22CA47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Issues for discussion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TMedium"/>
              </a:rPr>
              <a:t>How do we build a database of who/which CP interfaces we need to inform of PSTN PEWs?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69C0-70E3-4138-AD8D-C87F3233A9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dcterms:modified xsi:type="dcterms:W3CDTF">2006-08-03T09:02:40Z</dcterms:modified>
  <cp:revision>119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44439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KR2 R</vt:lpwstr>
  </property>
  <property fmtid="{D5CDD505-2E9C-101B-9397-08002B2CF9AE}" pid="5" name="_EmailSubject">
    <vt:lpwstr>Consult21: Implementation &amp; Migration WG - MCC Experts - Minutes and Slides from 030806</vt:lpwstr>
  </property>
</Properties>
</file>