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30A5-0CEC-4FF0-9496-C32195137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C5A4-DB0A-472D-B480-24FA512E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38AC-3A78-47E5-936B-06526FC8B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5BEA-79B2-4E0F-B042-5FF723C68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FACA-2EBE-414A-8AFE-98D193A43A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8EFB-5980-4059-AA88-E4C3E92F8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323E-04CF-43A0-9A60-74A0CD8DA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FA81-83E8-408D-B0B1-E5A755767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867C-17D1-4497-8D18-F875AFC76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27C2-39BF-4F51-B562-901FCA457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7651-47FD-4A19-ABD7-3025C93E4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40C1-A8D9-49DA-A054-402ADE88C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693-D059-41E6-B84B-57B2FDC088E5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6237360"/>
            <a:ext cx="660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08000" y="6453360"/>
            <a:ext cx="27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e4c"/>
                </a:solidFill>
                <a:latin typeface="Arial"/>
              </a:rPr>
              <a:t>I&amp;M WG: MCC Expert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3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br>
              <a:rPr sz="3200"/>
            </a:br>
            <a:r>
              <a:rPr b="1" lang="en-US" sz="3200" spc="-1" strike="noStrike">
                <a:solidFill>
                  <a:srgbClr val="003e4c"/>
                </a:solidFill>
                <a:latin typeface="BTExtraBold"/>
              </a:rPr>
              <a:t>Liz Walsh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an overview for Communication Providers on the continuing Migration Command &amp; Control consultation following the conclusion of the Requirements Capture Phas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EF41-3FEF-4409-9303-F1F96EF670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2448000" cy="31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06064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70828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35772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060640"/>
            <a:ext cx="2160720" cy="25207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Requirements Captur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CONCLUD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492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Ma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8108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an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724280"/>
            <a:ext cx="2232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2 multi-lateral workshops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7/01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4/03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Formal Consultation (04/04/06 – 26/04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in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27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74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97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2 - OPE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ul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98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3 - PLANN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8864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5321160"/>
            <a:ext cx="1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400536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93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e develop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Systems &amp; Measure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7036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Fault Diagnostics &amp; Service Management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0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Fallback Criteria &amp; Go/No Go criteria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4191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e4c"/>
                </a:solidFill>
                <a:latin typeface="Arial"/>
              </a:rPr>
              <a:t>Scheduling &amp; PEWs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724280"/>
            <a:ext cx="223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177840" indent="-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Approach: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multi-lateral workshops for each area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BT Proposal published post workshop for formal consultation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4508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Nov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5B7D-940A-4A8F-BC1D-9ACF1D2730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Timelin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Scheduling &amp; PEWs: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8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2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5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llback Criteria &amp; Go/No Go Criteria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ult Diagnostics &amp; Service Management (during End Customer Migration)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4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E5CC-3970-4B14-887B-54B7FCA232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To be confirmed: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War gaming Workshop – anticipated mid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ystems and Measurement – anticipated mid/late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cus on measuring individual migrations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3DED-DB71-4626-9128-C92EFFA8A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5-15T09:47:37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5383022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UQ4 WALSHE R</vt:lpwstr>
  </property>
  <property fmtid="{D5CDD505-2E9C-101B-9397-08002B2CF9AE}" pid="5" name="_EmailSubject">
    <vt:lpwstr>Consult21: Implementation &amp; Migration WG - Migration Command &amp; Control (Scheduling &amp; PEWs Workshop)</vt:lpwstr>
  </property>
</Properties>
</file>