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move the slid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4258-192B-4C22-AA15-868353244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F5D-BE05-4C07-B989-2385248DB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AC63-F2AA-4318-9A2C-8832652E7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2A6-468E-407B-B0D8-E29C2A14E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DCBE-05BE-43A7-B6CE-0BEA8F3F2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27D6-5E13-4626-A4A9-73B41A379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C701-8760-407A-B254-355697CBF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C15D-9F1D-4B88-8BFA-3949279CC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CD3F-E1DE-413B-B70F-1F44A6B65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B206-F1BE-4760-91F6-1E1761D94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9479-3535-40E7-83C2-FC927AAD8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6E96-B3BD-4372-BE4E-F0E67217B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B4F7-8E55-45B6-8C4A-ED6B148CC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C197-D4E3-4A84-9174-149C0932A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3B15-4155-4ADC-9EB8-0C8D30356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9316-D10C-4015-8D2F-C490C8179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E6A2-34AA-4524-8DA6-7913E7BFF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ABB8-FFB7-42A2-8EFC-07717B24E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03B1-6947-45CE-A506-CA83E50362DF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174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Go/No GO &amp; Fallback Criteria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Thoughts on principles</a:t>
            </a:r>
            <a:br>
              <a:rPr sz="3200"/>
            </a:br>
            <a:r>
              <a:rPr b="1" lang="en-GB" sz="3200" spc="-1" strike="noStrike">
                <a:solidFill>
                  <a:srgbClr val="003e4c"/>
                </a:solidFill>
                <a:latin typeface="BTExtraBold"/>
              </a:rPr>
              <a:t>Ian Pomford &amp; Alan Turner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some simple principles and thoughts by BT Wholesale for discussion with Communication Providers to facilitate the development by BTW of a proposal to define Go/No Go and Fallback criteria initially for Pathfinder and subsequently (subject to review) for Mass Migration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39CC-2697-4E81-919F-CF23C7B0DB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anagement of the Go/No go &amp; fallback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National Network Management Centr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Unique Overview of the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Experienced in managing Network migration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ponsible for Serious Incident Managemen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02400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9640" y="112536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D8B2-5F50-4925-8DBD-D9ED91A8FD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TExtraBold"/>
              </a:rPr>
              <a:t>Prior to “On the Night” Migration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21CN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existing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hange Control/Planned Works Proces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Have been enacted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Identification of Critical Number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al Time Contingency Plann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 plac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643-EA61-4529-B09E-52041038DA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Prior to Go/No GO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nal SIT-Rep from NM teams - 20CN/21CN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Health of the Network/ External Event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ical number activity/Network Monitor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Process in place and operational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Decision to Migrate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57F5-215D-4AB7-91F5-2C088C7191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 - Progress as at 23rd May 06</a:t>
            </a:r>
            <a:endParaRPr b="0" lang="en-US" sz="3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3640" y="1562040"/>
            <a:ext cx="79408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Project scope agreed</a:t>
            </a: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Broadband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Voice services including ISDN2/30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Lead Designer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ource agreed - Project team being assembl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Requirements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duct Initiation Document issu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ject plan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Timescales understoo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8805-300B-4310-92E1-DA9C41736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198144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76520"/>
            <a:ext cx="14479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20968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riteria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02920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Measure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952880"/>
            <a:ext cx="1752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209680"/>
            <a:ext cx="16761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666880" y="2742840"/>
            <a:ext cx="1676520" cy="2133720"/>
          </a:xfrm>
          <a:prstGeom prst="can">
            <a:avLst>
              <a:gd name="adj" fmla="val 22467"/>
            </a:avLst>
          </a:prstGeom>
          <a:solidFill>
            <a:srgbClr val="ff99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Fallback 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52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Out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1143000" cy="486000"/>
          </a:xfrm>
          <a:prstGeom prst="rightArrow">
            <a:avLst>
              <a:gd name="adj1" fmla="val 56861"/>
              <a:gd name="adj2" fmla="val 149604"/>
            </a:avLst>
          </a:pr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 rot="16200000">
            <a:off x="137160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40256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 rot="16200000">
            <a:off x="632448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635544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676520"/>
            <a:ext cx="914400" cy="3886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8BA1-61C6-4927-95D2-A8C577C6F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5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eria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Strong linkage to Go/No-Go criteria i.e. continued monitoring through transfer period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ssessment being made of current incident criteria for 20CN and 21CN Trials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riteria and thresholds are likely to be different during the transfer period - need to conduct gap analysi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Must accommodate ‘Graceful’ Fallback and Emergency Fallback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put from requirements stack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B201-0BEF-48A8-8123-A093EA46F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7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Measures and monitoring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key measures?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thresholds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o produces the data and with what frequency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overnance &amp; Decision Making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Key players that make the fallback decision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vailability of the key players e.g. 24 x 7 rota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hannels and protocols for making the decision e.g. conference bridge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351D-E8C0-4C14-9CD6-F7B2DE7AC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ommunications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 Internal and External Communications - need to establish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mat/content of the communications that are sent out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list of recipients (distribution list)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requency and means of distribution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reference points for further information</a:t>
            </a:r>
            <a:r>
              <a:rPr b="0" lang="en-US" sz="2000" spc="-1" strike="noStrike">
                <a:solidFill>
                  <a:srgbClr val="003e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round rules: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Use Business as usual processes either in part or in whole as much as possible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Explore systems opportunities to manage data through MCC especially in the area of measures and thresholds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DE7E-CB2A-4B1C-98A4-95716C4B39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cp:lastPrinted>2006-05-19T07:55:06Z</cp:lastPrinted>
  <dcterms:modified xsi:type="dcterms:W3CDTF">2006-05-23T12:29:12Z</dcterms:modified>
  <cp:revision>117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4965384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igration Command &amp; Control (Go/No Go &amp; fallback Criteria Workshop)</vt:lpwstr>
  </property>
</Properties>
</file>